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645-B7A1-4952-9908-D9537315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032A-3240-4DCC-A8F6-31AEC051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2AB4-A516-4B3E-B092-E9100830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1F85-C415-4A16-8154-6070BCB3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85CB-5910-4EBD-B561-D8FAAC3E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EA8F-A6A4-42A5-B2AD-3D9103A1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1DB6-DDF7-432F-95FE-2EBE357E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C0B4-8E6D-419A-89B2-C06C2D93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C0D1-CFD8-49A5-8D42-C3C6B1FD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CCD6-99B2-473D-81C9-F5569C34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E785-D8E5-4931-B04A-07D978BC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0DE4-BD8B-4C65-BFEC-DB12830F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2545-569D-4796-9757-F0111FCE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3EE5-1BD1-4950-ACF3-9AEB9A77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3A75-AB4E-49B9-BE66-35C149D5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C1E9-4E02-42FB-94C4-8954C09D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3AC3-4ED1-43C0-80B9-4F3FC63B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4E04-770F-4D34-A312-8CCD3B06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D844-13C8-4E41-9A5A-4BAB4165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C982-1927-4C4A-90A8-85B1D46C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D53A-6912-4BF0-B4C6-A011D53F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ADEE-F55D-4157-AE46-0C9F3083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8429-7665-4D6B-9E20-04FAC9C6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3E39-3257-4871-81A3-B043FA62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74B2-1EF7-4204-AD96-A8B5EC1671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D91C-E434-41F9-B415-E875CAB86B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ХЕМОГЛОБИНОПАТИЈЕ</a:t>
            </a:r>
            <a:r>
              <a:rPr b="1" lang="sr-R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И МЕТАБОЛИЧКИ ПОРЕМЕЋАЈ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руктурне хемоглобинопатиј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екуларни механизми одговорни за хемоглобинопат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е или функционалне манифес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ектрофоретско понашање (1/3 могућих мутација се може открити електрофорезо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јство на стабилност, облик и функцију Х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мозиготи ХбС-ХбС→изражене клиничке манифестације (анемија српастих ћел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терозиготи Хб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ХбА→асимптоматско обољ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руктурне хемоглобинопатиј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е варијанте хемоглобинопатија доводе до болести, док су многе без клиничких манифес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о се мутација догоди унутар глобинске подјединице, у близини џепова хема или на деловима где су ланци спојени, формира се нестабилни молекул Хб који се таложи у еритроцитима, уништава мембрану и изазива хемолиз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066320" y="3049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рођењу Хб чине два типа: А и 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ледна анемија српастих 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бнормални ХбС замењује у потпуности нормални Хб-у хомозигота (СС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бнормални ХбС замењује делимично нормални Хб-у хомозигота (АС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ол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едостатак кисеоника (пнеумоније, надморска висина, анестез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Ш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цид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исока или ниска температура, влага, алкохо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глобин С→мање растворљив→полимеризу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формише еритроците у облику срп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в постаје вискознија, долази до стазе и обструкције малих крвних суд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олико деформација потраје-хемолиза еритр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перплазија костне срж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сктрукција и хиперплазија Ер-исцрпљивање депоа фолне киселин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ћана конц. ХбС у физиолошким условима (бубрег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хидратација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ни инфаркти, хематур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за српастих Ер-фаворизује њихово уклањ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-спленомега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ћана слезина-бројни инфаркти-фиброз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пленија (инфекциј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поксија ткива→заостајање у телесном разво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са других варијанти Хб (смањена конц, ХбС)-лакша 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лфа таласемија мин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Трајно присуство Хб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негалски тип (западна Африка)-највише повишене вредности Хб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васкадно Црнци-читава Африка и Мадагаск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ска учесталост ХбС-јужно од реке Замбез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ома висока-Гамбија, того, Бенин, Нигерија, Конго, Заир, Габ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ГЛОБИНОПАТИЈА 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А. Слика остео-атралг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ћена оток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нтана резолуција (веома честа, влажни појас тропске Африк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</a:t>
            </a:r>
            <a:r>
              <a:rPr b="0" lang="sr-Latn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-foot </a:t>
            </a:r>
            <a:r>
              <a:rPr b="0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дром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отоци меких ткива око зглобова прстију и дорзалних делова шака и стопала (инфаркти у парартикуларним деловима)-бебе и мала де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кално: бол, оток, топлота (захваћених рег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о: повишена температура, хепато-спленомега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зије симетричне, отежавају х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за пролазна (траје 1-2 недеље), тенденција рецидивирања, контрактура прст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ни и топли оток костију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екстремитет, ребра, лобања, пршље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ишена температура и хепатомегалија (често и спленомегалија), хемолиза и ан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ок и излив једног већег зглоба или лобање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псеудокефалхематом-једнострани болан, флуктуирајући оток, може да захвати и лиц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ија деца, одрасли и трудн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 спонтане резолуције (чес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ерзистира фебрилност (остеомијелитис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алмонеле код деце, жути стафилокок код одрасл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 отока (деца и одрасл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ролазни болови у читавом телу (мировањ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ишеструке емболије са смртним исход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Болови у једном или обадва зглоба кука, атрофија глутеуса, компезаторна сколиоза </a:t>
            </a:r>
            <a:r>
              <a:rPr b="0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асептичка остеонекроза главе фемура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Б. Синдром акутног абдом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ови у трбуху различите локализ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ишена темпер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раћ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тезање трбушног зида (некада тврд као дас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стој столице и ветр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ујна перистал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 сати до пар да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цидиви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кроинфаркти мезентеријума и слезине (смањење слезин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. Синдром анем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утна ан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емија праћена болном спленомегалијом (некада и хепатомегалијом</a:t>
            </a:r>
            <a:r>
              <a:rPr b="0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еквестрација Ер у слези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Мала деца и породиљ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Шо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руктура хемоглобин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теински део (глобин-97%) састоји од 2 пара полипептидних ланаца (алфа, бета, гама, делт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 (3%)- 4 молекула хе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фиринско језгр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лопирајућа ан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Дрхтавица, повишена температура, абдоминални или лумбални бол, хепатоспленомегалија (болна), шок, кома, конвулзије-смртни исход (чес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реживели: иктерус, хемоглобинурија и јаки болови у зглобовима без ото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Чешће код деце, епидемијски, Парвовирус (апластична криз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ронична ан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Деца и трудн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Бледило слузница и дланова, малаксалост, субфебрилност, тахикардија, систолни шум, субиктерус, тамна мокраћа, хепатоспленомега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Умерена хемоли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, Плућни синдро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аркт (тромбо-ембол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уви кашаљ, убрзано дисање, фебрилност, акутни бол у гр.кошу, искашљавање сукрвичавог испљувка, субикте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Физикално: крепи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Често фатални исх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Деца и трудн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утна пнеумопатија (пнеумон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Температура, диспнеја, хемоптиз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отмули перкуторни звук, пуко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Мала деца-пнеумок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Честиви рециди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066320" y="228600"/>
            <a:ext cx="7543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ронично плућно срце (ретк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Диспнеја у напору, цијаноза (усне, нокти)-без полицитем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Д. Синдром срчане исуфицијен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тарија де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немија, микроинфаркти миокарда, хипокс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Хронично плућно ср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Физикално: отоци, диспнеја, тахикардија, систолни шум, кардиомегалија, хепатомега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Ђ. Синдром хепатоспленомегалије (чес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Мала де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ретходно поменуте кризе или ан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ременом перзистира само хепатомегалија (инфаркти смањили слезин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066320" y="38052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Е. Нејасно фебрилно ст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Траје неколико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Рецидиви ч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Ж. Уро-генитални синдро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болна макро- или микрохематурија (минимална траума)-груба перкусија се не препоручује код црнаца. Настаје због некрозе папила (спонтана резолуц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урија услед неспособности концентровања мокраћ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фротски синдром-отоци, макроалбуминурија и с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омерулонефритис (секундарне инфекције стрептококо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јапизам после пубертета (ноћни напади)-импотен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З. Опстерико-неонатални синдро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остајање у сексуалном сазревању (смањење плоднос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ачај или превремени порођај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трофичко сужење пелвиса-диспропорција фетус-пелвис→дисто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ћа смртност породиља и новорпђенча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а порођајна тежина (интраутерино стварање српастих еритроцита, анем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шћа појава кефалхемат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И. Нуропсихички синдро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лизе кранијалних нерава (диплопија, глувоћа, слепил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иплегија, ређе квадрипле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аксалост, апатија, депресија, анксиозност, хистерија, рецидивирајућа главобоља праћена повраћањ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Ј. Офталмолошки синдро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лативно чести, рецидивирајућ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пило-хеморагија у ретини или стакластом телу, аблација рет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лиферативна ретинопатија-неоваскулариз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рактеристични хабит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а лобања са избочинама паријеталне к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голоидни фаци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љоштен нос у коре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урене вилице и зуб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так тру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ани грудни кош и карл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ге дуге и тан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сти дуги и тан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бертетске промене скром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биктерус беоњач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066320" y="228600"/>
            <a:ext cx="7543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ноза лош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еменом аспленија-имунодефицитар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остајање у линеарном расту и сексуалном разво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ГЛОБИНОПАТИЈА А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атурија, инфаркт слезине и плућ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А.Остео-артикуларни боло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Ретки напади, без отока (прсти, руке, ноге, кичм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септичка некроза фемура (ретк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Б. Синдром акутног абдом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Бол променљиве локализације, интезитета и трај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Бол у ЛХ, праћен спленомегалијом и затезањем трбушног зида (инфаркт слезиин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066320" y="228600"/>
            <a:ext cx="7543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. Синдром анемије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изузетно ретка хемолитичка ан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. Синдром срчане исуфицијенције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еома ред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Д. Плућни синдром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лућни инфаркт (као код Хб СС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Ђ. Синдром фебрилног ст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Е. Генито-уринарни синдро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Макрохематурија, безболна, рецидивирајућ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олиурија, бактериурија, пријапиз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Ж. Неуропсихички синдро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Хемиплегија, конвулз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Главобоља (различите локализације)-нормалан ликворск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З. Офталмолошки синдром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тромбоза ретиналне артер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олуција повољ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лоност инфекција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ћана отпорност на тропску маларију-тенденција паразитарних Ер да заузму српасти облик (и буду уништен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 ХбСС и ХбА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ферни разма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Еритроцити са језгром у виду циља или српастог об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Електрофореза хемоглоб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иографија→промене у кортикалним деловима костију, </a:t>
            </a:r>
            <a:r>
              <a:rPr b="0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конкавни пршљенови (патогномонично!), </a:t>
            </a:r>
            <a:r>
              <a:rPr b="0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ци остеомијелитиса ит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обине хемоглобин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баво и реверзибилно  се везује за кисео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плућима кисеоник се везује за хемоглобин – оксихемоглоб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ткивима кисеоник се ослобађ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аки литар крви транспортује око 50 мл кисеоника ткивима, а за време активности увећава се и до три пу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томат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лавном само Хб 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ривати крви, фолна кисел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биотици, кардиолошка 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фузије крви-да хематокрит не пређе 2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первискозит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ала симптоматска 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066320" y="38052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ГЛОБИНОПАТИЈА 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лан хемоглобин А/А2 потпуно замењен хемоглобином Ц код хомозигота (ЦЦ) или делимично код хетерозигота (АЦ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глобинопатија АЦ-без симпт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глобинопатија ЦЦ-изузетно рет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Синдром анем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Остео-артикуларни синдром-банални боло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олуција-повољ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Успорени развој пуберт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остпарталне хеморагије породиље (атонија утеру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ефалхематоми (не треба их инцизира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Терапија-симптомат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066320" y="45684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ГЛОБИНОПАТИЈА С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демска у западној Африци, ограничена реком Нигер (Гана, Буркина ФАсо, Мали, Ниге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нифестације сличне онима код ХбСС али се испољавају касније (око 10. године живот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еменом блаж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абитус→више здепаст изгле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олуција повољнија него код Хб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-симптомат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a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ласемиј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вантитативне хемоглобинопат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а глобинских ланаца нормал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теза глобинских ланаца смањена или одсут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баланс у продукцији глобинских ланаца доводи до акумулације слободних ланаца у прекурзорима еритр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a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ласемиј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бодни ланци нису растворљиви, таложе се и изазивају хемолизу еритроцита, тј хемолизну анем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лиза доводи до компензаторне хиперплазије коштане срж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Хемосидероз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терано уношење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вожђ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у организ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тропским крајевима настаје због конзумирања пива домаће производње и хране која се чува у гвозденим посуд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анда-превелика потрошња к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рошња алкохола и оштећење панкреа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љевају особе мушког пола, средњих годи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вожђе се депонује ћелијама РЕС (јетри, слезини) и дуоденуму; и узрокује фиброзу и цироз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Хемосидероза-клиничка слик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Р, Зимбабве, Гана, етиопске планине (теф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дром хепатомегалије (најчешћи обли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Бол у епигастријуму и ДХ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Физикално: јетра увећана, болна, чврсте конзистенције, неравне површине и оштрих ив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дром портне хипертензије – ређе се јавља хепатоспленомегалија, асцитес, едем потколеница, субиктерус, кожа сиво црне боје, губитак длка и импотен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Дијагноз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демско јављ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ишене вредности 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у серу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ишене вредности феритина у серу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опсија јетр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hemosideroza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ерапија и прогноз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уштање  500мл венске крви недељно док не наступи хипохромија и хипосидер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брана алкохо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а начина припреме хр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сфероксамин заједно са Ц витами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Грађа хемоглобин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hemoglobin struktura"/>
          <p:cNvPicPr/>
          <p:nvPr/>
        </p:nvPicPr>
        <p:blipFill>
          <a:blip r:embed="rId1"/>
          <a:stretch/>
        </p:blipFill>
        <p:spPr>
          <a:xfrm>
            <a:off x="990720" y="1600200"/>
            <a:ext cx="75438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орфирија кутанеа тарда (Банту тип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и облик порфир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аје услед наследног или стеченог дефицита уропорф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г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-декарбоксилазе услед чега настаје хиперпродукција и акумулација уропорфир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хол, естрогени и таложење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у јетри (сидероза) су стимулирајући факто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рвена боја мокраће, преосетљивост коже на сунчеве зра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линичка слик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оји осетљивост коже на сунчеве зра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ихови на рукама и ногама код припадника Банту народа, који прелазе у хипопигментисане ожиљ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перпигментације коже на слепоочницама и јабучицама (специјално код же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Црвена боја мокраће и налаз порфирина у њој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Хлорокин 10 дана (100мг/8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уз рестрикцију алкохолних пић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ропска неуромијелопатиј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генеративне промене аксона централног и периферног нервног система као код токсичних и метаболичких неуропат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тиологија није јасна али се описују бројни фактори: економски, метеоролошки, мањак уноса протеина, липида и витамина Д, цијаниди,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линичка слик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вља се углавном у тропској Афр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љевају одрасле особе оба по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дични случајеви су доста ч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е настаје постепено са прогресијом симпт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тко се јавља нагло, углавном епидемијски, током суше када се користи касава недовољно прерађ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аксични синдром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герија, Обала Слоновач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стабилност при ходу, ход на широкој основ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итиван Ромбергов зн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рија покрета (проба прст-нос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 тетивни рефлек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жење видног поља и са централним скотомима (неуритис оптику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потонија и дистална атрофија мишића доњих екстремит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индром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пастичке парапарез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ир, Мозамбик, Сејшел, Ј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гло настаје  током епид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тичан ход, често у виду кретања клат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пертонија мишића, појачани тетивни рефлек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ћи су и поремећај свести, вида, слуха и функција мокраћне бешик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индром треопског панкреатитиса младих</a:t>
            </a:r>
            <a:br>
              <a:rPr sz="3200"/>
            </a:br>
            <a:r>
              <a:rPr b="1" lang="sr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“калцификујући хронични панкреатитис”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дично јављ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сично дејство цијанида (манио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остатак витамина и олигоелемен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е и друге инфекције панкреаса доводе до запаљенске инфилтрације, фиброзе и атрофиј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остатак беланчевина у исхрани (недовољно стимулисање и пражњење панкреасног сока доводи до калцификациј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кваторијални појас: Нигерија, Заир, Уганда, Кенија, Замбија, Малави, ЈАР, Мадагаск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линичка слик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вља се код деце и младих осо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а по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иње јаким боловима у епигастријуму који се шире у леви хипохондријум; повраћање, губитак у телесној тежи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олуција болести траје годинама и праћена је компликацијама (синдром малапсорпције, дијабетес, опструктивни иктерус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ћина оболелих умире у четрдесетим годин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Дефицит дехидрогеназе глукоза 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6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 фосфат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аје због дефекта ензима дехидрогеназе глукозо-6-фосфата еритроцита, који је значајан за елиминацију токсичних перокси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ложење хемоглобина у еритроцитима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inzova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лашца) и хемоли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 за Г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сфата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ази се  на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мозо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љевају углавном хетерозиготи (мушке особ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јке (хомозиготи) обољевају веома ретко (само када је проценат еритроцита висо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демска појава маларије је селективно утицала на дефицит енз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Фактори ризик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пнеумокок, салмонела, вирус хепатитиса, плазмодију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таболички поремећај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дијабетична кето-ацидоза и анестез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ков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хлорокин, сулфопрепарати, нитрофурантоин, фенилхидраз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а тропска Африка (сем Етиопије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Ретко у Намибији, Боцвани, Мадагаскар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еома често: Заир, Кенија, Танзанија, Анго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hemoglobin-picture"/>
          <p:cNvPicPr/>
          <p:nvPr/>
        </p:nvPicPr>
        <p:blipFill>
          <a:blip r:embed="rId1"/>
          <a:stretch/>
        </p:blipFill>
        <p:spPr>
          <a:xfrm>
            <a:off x="1295280" y="137160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дром акутне хемолитичке анемије (најчешћ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бост, лумбални или абдоминални бо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едило, субиктерус, тамна мокраћа, повишена температура (понекад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е око 8 да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нтано неста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дром неонаталног иктеруса (веома реда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шка беб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ктеру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мна мокраћа (обојена столиц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а анемија (ретко хемолитичка анемиј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рно-црвенкаста мокраћа (хемоглобинур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пер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рубин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уство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inz-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их телашаца у еритроцитима(само на почетк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охромна анемија, ретикулоцит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рба против нокс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ити инфекц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орођенче-излагање сунцу, ретко ексангвинотрансфуз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олуција болести је најчешће повољ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Фактори који утичу на веће ослобађање кисеоник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25146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же ph вредности к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аст концентрације CО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аст температуре к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Хемоглобин човек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мбрионални хемоглоб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етални хемоглобин (Хб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&lt;1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глобин одрасл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Хемоглобин А (алфа2 бета2) 97-98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Х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моглобин А2 (алф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делта2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-3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Хемоглобинопатиј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 код којих долази до промене структуре или синтезе једног или више глобинских ланаца хемоглоб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ледна обољ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а су обољења у пределима где је маларија ендем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вља се код 15-40% црнаца, нарочито у земљама западне Афр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шње умире око 100 000 људ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Класификација хемоглобинопатиј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рурне хемоглобинопат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ласемије (дефектна синтеза глобинских ланац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ласемијске хемоглобинске варијанте – структурно измењен Хгб удружен са таласемијским фенотип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едитарно задржавање феталног Хг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чене хемоглобинопат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6:18:50Z</dcterms:created>
  <dc:creator>XP</dc:creator>
  <dc:description/>
  <dc:language>en-US</dc:language>
  <cp:lastModifiedBy>Predrag Canovic</cp:lastModifiedBy>
  <dcterms:modified xsi:type="dcterms:W3CDTF">2024-01-31T19:19:53Z</dcterms:modified>
  <cp:revision>142</cp:revision>
  <dc:subject/>
  <dc:title>HEMOGLOBINOPATIJE</dc:title>
</cp:coreProperties>
</file>